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602C3-B1CF-4490-9BD1-6C16E74C2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392E9-5C71-404F-97A1-12BA939BB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C235-ED71-484B-921A-07478FB02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69F9-EA9C-4852-AB71-8EFEDF517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CE4F-C027-4725-807A-CC2C3EC90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DBB3-F173-45BC-8A36-6AC59AC48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49D4-069E-440C-B719-DC9C30578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577C-E457-4388-90C3-1A0631FA8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3CFF-577C-4911-AF95-12D7AFDD2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E2EA-D797-461A-AF77-89F33B7C8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5C4B-43F3-4DB1-9918-C94AFB8FD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03CA-F915-4388-A850-B6F917D2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F6EC-8A22-420E-A0ED-536354EC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694E-B804-4F1F-A8C9-E48E3C37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6FA50-B6CC-4D30-8249-9A23C0A78C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harlene Lucer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Sharlene Lucer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Sharlene Lucero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Sharlene Lucero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Sharlene Lucero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2670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22320" y="3505320"/>
            <a:ext cx="203508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i nombre es Sharlene. Yo vivo en Nueva York. Yo tengo catorce años. Yo tengo 1  hermano.Yo soy amable y energica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Buenas tardes amigas! Que tal?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Sharlene, yo voy voy con    . ¿Cuando vamos a ir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d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s!…. Quieres comprar helado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¡Buenas Noches amigas! ¡Ya voy a dormir!!!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6T14:59:32Z</dcterms:modified>
  <cp:revision>104</cp:revision>
  <dc:subject/>
  <dc:title>Profile</dc:title>
</cp:coreProperties>
</file>